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C18-1A60-4D2C-90AD-3C5B0FC4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93E-2FA7-4ECA-9A58-FB21E7C6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C2F-596A-4596-9996-A211A4AB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52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52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F1B-AA0B-4DB1-B4AC-E6B2B0CF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A57-CEE7-4D19-929C-2D4FCD66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925-E42C-42F7-A7C6-03EFAFAB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71D-E25A-4AA0-9E16-5AE67ADF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3D4-A2CB-4A12-88FE-B9210186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06280"/>
            <a:ext cx="8075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58F-4663-4006-B8F0-F6319988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FDC-545B-4A40-8A38-FC009E36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8BF-4D19-4E60-8195-DF37342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524-38AA-48DC-840A-B2D128EF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476676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B525-2443-4491-BDBA-563F95D5762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11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BB89-815D-436D-8C37-11BC8072EA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08AE-40DA-4987-B2A7-EA8D7DA6033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7" descr=""/>
          <p:cNvPicPr/>
          <p:nvPr/>
        </p:nvPicPr>
        <p:blipFill>
          <a:blip r:embed="rId2"/>
          <a:stretch/>
        </p:blipFill>
        <p:spPr>
          <a:xfrm>
            <a:off x="1324080" y="911160"/>
            <a:ext cx="2841480" cy="1656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3"/>
          <a:stretch/>
        </p:blipFill>
        <p:spPr>
          <a:xfrm>
            <a:off x="4788000" y="911160"/>
            <a:ext cx="2663640" cy="1656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4"/>
          <a:stretch/>
        </p:blipFill>
        <p:spPr>
          <a:xfrm>
            <a:off x="4165560" y="2798640"/>
            <a:ext cx="1652760" cy="22021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5"/>
          <a:stretch/>
        </p:blipFill>
        <p:spPr>
          <a:xfrm>
            <a:off x="971640" y="281160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6"/>
          <a:stretch/>
        </p:blipFill>
        <p:spPr>
          <a:xfrm>
            <a:off x="6156360" y="2774880"/>
            <a:ext cx="27352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9C09-51A9-441D-BD14-540D6DA4429E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4419720" y="2419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2"/>
          <a:stretch/>
        </p:blipFill>
        <p:spPr>
          <a:xfrm>
            <a:off x="971640" y="98748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"/>
          <p:cNvPicPr/>
          <p:nvPr/>
        </p:nvPicPr>
        <p:blipFill>
          <a:blip r:embed="rId3"/>
          <a:stretch/>
        </p:blipFill>
        <p:spPr>
          <a:xfrm>
            <a:off x="3492360" y="987480"/>
            <a:ext cx="230364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"/>
          <p:cNvPicPr/>
          <p:nvPr/>
        </p:nvPicPr>
        <p:blipFill>
          <a:blip r:embed="rId4"/>
          <a:stretch/>
        </p:blipFill>
        <p:spPr>
          <a:xfrm>
            <a:off x="6219720" y="1058760"/>
            <a:ext cx="2303640" cy="1513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5"/>
          <a:stretch/>
        </p:blipFill>
        <p:spPr>
          <a:xfrm>
            <a:off x="1547640" y="2757600"/>
            <a:ext cx="2745000" cy="20588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7" descr=""/>
          <p:cNvPicPr/>
          <p:nvPr/>
        </p:nvPicPr>
        <p:blipFill>
          <a:blip r:embed="rId6"/>
          <a:stretch/>
        </p:blipFill>
        <p:spPr>
          <a:xfrm>
            <a:off x="4925880" y="2762280"/>
            <a:ext cx="29257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4900-9A35-47A3-8CC2-D84F3743193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2935440" y="987480"/>
            <a:ext cx="3652560" cy="195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сентября 2021г. прошла  ежегодная Всемирная образовательная акция «</a:t>
            </a:r>
            <a:r>
              <a:rPr b="1" i="1" lang="ru-RU" sz="11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атарча диктант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«</a:t>
            </a:r>
            <a:r>
              <a:rPr b="1" i="1" lang="ru-RU" sz="1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тарча диктант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— это диктант на татарском языке, обучение татарскому языку без ошибок, увеличение круга пользователей литературного татарского языка, проверка орфографических и грамматических ошибок. Акция направлена на повышение интереса к грамотному правописанию, владению литературным татарским, самопроверку орфографических и грамматических ошибок. Из нашего лицея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яли участие 83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687240" y="987480"/>
            <a:ext cx="2097360" cy="18320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3"/>
          <a:stretch/>
        </p:blipFill>
        <p:spPr>
          <a:xfrm>
            <a:off x="763560" y="3141720"/>
            <a:ext cx="2067120" cy="1689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4"/>
          <a:stretch/>
        </p:blipFill>
        <p:spPr>
          <a:xfrm>
            <a:off x="3308400" y="3240000"/>
            <a:ext cx="2952720" cy="1565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"/>
          <p:cNvPicPr/>
          <p:nvPr/>
        </p:nvPicPr>
        <p:blipFill>
          <a:blip r:embed="rId5"/>
          <a:stretch/>
        </p:blipFill>
        <p:spPr>
          <a:xfrm>
            <a:off x="6765840" y="1130400"/>
            <a:ext cx="2133720" cy="1689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6"/>
          <a:stretch/>
        </p:blipFill>
        <p:spPr>
          <a:xfrm>
            <a:off x="6721560" y="3048120"/>
            <a:ext cx="21780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15:21Z</dcterms:created>
  <dc:creator>Ковалева Валерия Юрьевна</dc:creator>
  <dc:description/>
  <dc:language>en-US</dc:language>
  <cp:lastModifiedBy>Professional</cp:lastModifiedBy>
  <cp:lastPrinted>2021-02-04T07:26:50Z</cp:lastPrinted>
  <dcterms:modified xsi:type="dcterms:W3CDTF">2021-09-24T16:16:49Z</dcterms:modified>
  <cp:revision>461</cp:revision>
  <dc:subject/>
  <dc:title>Презентация PowerPoint</dc:title>
</cp:coreProperties>
</file>